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B56-4512-409B-BB26-6D336E32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8E8-11B9-47AD-96B4-4B3D12EF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A48-994A-4326-AAF5-BC9AA213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D4D-5146-4632-9E43-CD0BD7A7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3685-2C50-40E1-81A1-ECE538B4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4922-8D4F-46DC-9D93-DFC56AC6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97F6-E47A-44A7-B9BA-CB402079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3AF4-4A57-4A93-B25B-435CBF01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1F21-32D2-41B2-8287-9568661E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489F-9ABF-419D-90A7-1BDAD8F6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C00C-9D4C-4F5C-873F-21437FC1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5FA-E6BE-46F1-8842-5220E386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30A7-87A0-4F9E-8DD9-D640E5DC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24F1-39E9-424C-AB86-2C5D467E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03E1-344F-4DA0-9F61-77F2D695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7129-756A-45B6-B706-C67B7EC0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4937-7D02-4601-947D-F99D27F9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79F-BD7F-410F-9D16-35DF764E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C35-EC36-4DEB-A86F-91FA1947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6D7-FB20-4709-BD56-BD990A6C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571-BF6D-49B1-97EB-54CD211A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623-B08A-4BC8-936E-EBC25AEA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7B9D-33F1-4805-ABD2-17DE2F3B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52C-15D0-4310-A65C-8DC7BC27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E15F-1EB4-4FB1-8725-143FE88729A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2499-EE98-4FC3-8C75-A86789A1BCB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Основные направления деятельности ПМПК на современном этапе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635280" y="5035680"/>
            <a:ext cx="53085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Председатель ПМПК г. Казан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Июдина Светлана Владимировн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, обучающихся в специальных образовательных учреждениях 8 вида (умственно отсталые) школа №61, №142, №76, школа-интернат №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сновной образовательной программе общего образования для учащихся с интеллектуальной недостаточность (лёгкой, умеренной, глубокой) степени в ….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 с умственной отсталостью, но обучающихся в общеобразовательной школе мы рекоменду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бразовательной программе общего образования с учётом индивидуальных психофизических особенностей, обусловленных лёгкой интеллектуальной недостаточностью в … классе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направления деятель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проведение обследования детей в возрасте от 0 до 18 лет в целях своевременного выявления особенностей в физическом или психическом развитии или отклонений в поведен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подготовка по результатам обследования рекомендаций по оказанию детям психолого-медико-педагогической помощи и организации их обучения и воспитания, подтверждение, уточнение или изменение ранее данных комиссией рекоменд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оказание консультативной помощи родителям (законным представителям) детей, работникам образовательных учреждений, учреждений социального обслуживания, здравоохранения, других организаций по вопросам воспитания, обучения и коррекции нарушений развития детей с ограниченными возможностями здоровья и девиантным поведение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оказание учреждениям медико-социальной экспертизы содействия в разработке индивидуальной программы реабилитации ребенка-инвали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26920" y="2492280"/>
            <a:ext cx="7693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уществление учета данных о детях с ограниченными возможностями здоровья и (или) девиантным (общественно опасным) поведением, проживающих в г. Казан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подготовка рекомендаций обучающимся 9, 11 классов с ограниченными возможностями здоровья о форме сдачи государственной итоговой аттест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бучающийся с ОВЗ это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Физическое лицо, имеющее недостатки в физическом или психологическом развитии, подтверждённые ПМПК и препятствующие получению образования без создания специальных условий». (ст. 2 Федерального закона «Об образовании в РФ»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группу школьников с ОВЗ входят дети с различными нарушениями слуха, зрения, речи, опорно-двигательного аппарата, интеллекта, расстройствами аутистического спектр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акет документов, предоставляемых на ПМПК при определении формы сдачи ГИ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паспорта или свидетельства о рождении ребён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правки, подтверждающей факт инвалидност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домовой книги о составе семь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арактеристика обучающего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решения педсовета школы о направлении ребёнка на ПМПК с целью определения формы сдачи ГИ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правки о домашнем обучени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иказ о домашнем обучени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равка от врача-психиатра с развёрнутым диагнозо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детей с нарушением слуха – направление сурдолога с развёрнутым диагнозом и данными о восприятии шёпотной речи, аудиометрическое обследование (аудиограмм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детей с нарушением зрения – направление окулиста с развёрнутым диагнозом и указанием остроты зр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детей с нарушением опорно-двигательного аппарата – направление невролога с развёрнутым диагноз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ловия, необходимые для перевода ребёнка из одной образовательной организации в другую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перво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наличие у ребёнка умственной отсталости, подтверждённое заключением районного врача психиатра (заключение платных специалистов не принимаются!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второ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стойкое неусвоение основной общеобразовательной программы, подтверждённое итоговыми оценками за каждую четверть и за год (не менее 2 – 3 двоек!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 ПМПК могут быть направлены школьник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с 1 по 4 класс включительно!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родская комиссия начинает приём учеников общеобразовательных школ с ноября по итогам 1 четверти в течение всего календарного год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спубликанская ПМПК принимает детей г. Казан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997000"/>
            <a:ext cx="30132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 5 по 20 м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 2 по 10 июн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следние 3 недели авгус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51280" y="2362320"/>
            <a:ext cx="4968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ледовательно перевод ребёнка из одной образовательной организации в другую осуществляется только на следующий учебный го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.е. не зависимо от того, когда ребёнок прошёл городскую комиссию, учебный год он доучивается в своей школ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47360" y="828360"/>
            <a:ext cx="7797960" cy="8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ая цель ПМП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00000" y="2361960"/>
            <a:ext cx="763128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воевременное выявление детей с особенностями в физическом или психическом развитии или отклонениями в поведении, проведение их комплексного психолого-медико-педагогического обследования и подготовка по результатам обследования рекомендаций по оказанию им психолого-медико-педагогической помощи и организации их обучения и воспитания, а также подтверждения, уточнения или изменения ранее данных рекомендаций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акет документов, предоставляемых на ПМПК при переводе ребёнка из одной образовательной организации в другую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видетельства о рождении ребён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правки, подтверждающей факт инвалидност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домовой книги о составе семь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истории развития ребёнка (от участкового педиатр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правление врача-психиатра на ПМП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арактеристика от классного руководите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абочие тетради по русскому языку и математик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абель успеваемости за четверть с выставленными двойками, а в конце года копия личного дела ученика, где не должно быть указано, что ребёнок переведён в следующий класс, а в табеле успеваемости в четвертных, полугодовых, итоговых оценках выставлены не менее двух – трёх двоек по основным предмета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решения педсовета о направлении ребёнка на ПМПК с целью определении дальнейшей программы об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правление районного отдела образования на РПМП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ши координа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настоящий момент ПМПК осуществляет свою деятельность на базе средней общеобразовательной школы №168 и находится по адресу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л. Годовикова, д.8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Телефон комиссии 240-98-94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ля достижения этой цели в ПМПК осуществляетс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профессиональная комплексная диагностика, направленная на выявление актуальных и потенциальных возможностей развития детей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выбор или изменение образовательного маршрут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контроль эффективности разработанных рекомендаций в отношении  детей, прошедших обследование в ПМП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Запросы родителей при обращении в ПМП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ределение профиля дошкольного учрежд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ределение программы школьного обуч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ешение вопроса МСЭ (при оформлении или продлении инвалидност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лучение рекомендаций о форме сдачи ГИ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6932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 2013 г. ПМПК не даёт рекомендаций о воспитании и обучении ребёнка в каком-либо конкретном учрежден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компетенции комиссии определение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программы обучения ребёнк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ыбор образовательного учреждения остаётся за родителя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000" y="2276280"/>
            <a:ext cx="82803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ородская ПМПК работает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весь календарный г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ём ведётся строго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предварительной запис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писаться можно как по телефону, так и лично обратившись по месту работы комисс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ём осуществляется 2 раза в недел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пись на приём и консультирование ведётся ежедневн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оллегиальное заключение ПМПК включает в себ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1280" y="2361960"/>
            <a:ext cx="83534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Выводы о наличии либо отсутствии у ребёнка особенностей в физическом или психическом развитии или отклонений в поведени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Рекомендации по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Определению формы получения образовани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Определению образовательной программы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Форм и методов психолого-педагогической помощ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Созданию специальных условий для получения образования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ации ПМПК по определению образовательной программы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, обучающихся в специальных образовательных учреждениях 1 – 2 вида (глухие и слабослышащие) – школа-интернат №6 им Ласточкиной; 3 – 4 вида (слепые и слабовидящие) – школа №172; 5 вида (тяжёлые нарушения речи) – школа-интернат №7; 6 вида (нарушения опорно-двигательного аппарата) – школа №78 и школа-интернат №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сновной общеобразовательной программе (начального, основного, среднего) общего образования для учащихся с нарушением (слуха, зрения, речи, опорно-двигательного аппарата) в …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, имеющих нарушения слуха, зрения, речи, ОДА, но обучающихся в общеобразовательной школе мы рекоменду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бразовательной программе (начального, основного, среднего) общего образования с учётом индивидуальных психофизических особенностей, обусловленных нарушением (слуха, зрения, речи, ОДА, эмоционально-волевой сферы) в …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11:25:08Z</dcterms:created>
  <dc:creator>Your User Name</dc:creator>
  <dc:description/>
  <dc:language>en-US</dc:language>
  <cp:lastModifiedBy>Your User Name</cp:lastModifiedBy>
  <dcterms:modified xsi:type="dcterms:W3CDTF">2015-12-03T09:21:44Z</dcterms:modified>
  <cp:revision>8</cp:revision>
  <dc:subject/>
  <dc:title>Слайд 1</dc:title>
</cp:coreProperties>
</file>